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634-23F3-435C-B0F4-D3E8318C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D77-7B34-4275-83FB-ECA33650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C26-669B-4C0D-A983-E99AF808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CE0-416B-4B2F-96B3-9549B02A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407-DC3E-44F0-844C-19EA673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62F4-16D0-42E7-8088-BA45D7ED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93FA-4DD6-4971-900B-95789D8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5089-6FDB-4F33-A874-EDCBF8EB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A130-70DA-4B5C-9E3E-3DADEF9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94FE-C205-4AC5-A819-937805E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DA25-9A07-441A-861E-2CFFB25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978-35D3-4BF9-A526-6276EE96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B265-7154-49A2-B554-2BDC736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D210-388C-42BE-9A80-4EAFC78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9CEA-C668-493B-B152-5362FD26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4208-E098-4437-95BD-3C0863F8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EF5-6768-4C92-8290-FD2FC826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C4A-4A84-4D48-952D-A715750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1DC-031E-48E9-AF34-328694BB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6CA-F45F-4D9A-BC52-3BBA7450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719-13D5-445D-90EF-0DA3EB58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6C8-733E-4F91-9FE0-43B64E8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24-79FE-4B74-913A-7A10E95E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A81-B696-4673-A668-AD7D319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1E02-6ECB-4B0C-8FBF-9DD17CDA25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0D1C-E0C5-4337-9152-E9C352CD81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amuel</a:t>
            </a:r>
            <a:br>
              <a:rPr sz="48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 Samuel 4 - 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09-1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3581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uel’s Influence Caused Repentance – 1 Sam. 7:3-17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Israel put away their Baalim and Ashtaroth and asked for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way they would defeat the Philist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now judged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stines again gathered against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uel made an offering to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thunderstor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smote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one of Ebenezer set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as peace in the land for 2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ites Asked For A King –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 Sam. 8:1-2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was old – lived in Rama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made his sons judges in Beershe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el and Ab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sons were corru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mo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bri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sed their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as unrest in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: “Give us a king to judge 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is Will Be The Manner Of The King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 Sam. 8:11-2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your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appoint captains to use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your daughters to c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your fields and viney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a tenth of your seed and viney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from you menservants and maidserv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ill take a tenth of your sh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ill be working for the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rael Made Their Deci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rejected Samuel’s vo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anted to be like other 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talked it over with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aid: “make them a K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Deut. 17:14-20 – God knew this day would 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starts a new period of Bible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remained a judge – anointed Saul and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amu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842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he first of an order of “prophets”  (3:2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a “priest” offering sacrifice  (7: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he last “judge” of Israel  (7:15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unified the nation under a king  (Ch. 7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a Levite  (1 Chron. 6:23, 33-3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lived the Nazarite vow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 Sam. 1:1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educated other prophets  (1 Sam. 19:2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in the hills of Ephraim  (1 Sam. 1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of God Captured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4:1-11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went to battle against the Philist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t about 4,000 men; God was not with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of the covenant was brought out of Shiloh to the ca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ain, the Israelites suffered a great loss; about 30,000 foot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phni and Phinehas were killed on that day and the ark was 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ath Of Eli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4:12-2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98 years old and almost bl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ceived an update of the fight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fled before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ites defeated; many d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sons had been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k was t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fell backwards and broke his ne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 judged for 4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aughter-in-law was preg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In Philistine Territory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5:1-1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to Ashdod into the house of Dagon (Philistines g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house of Dagon-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y temples were erected in honor of this idol, which was the principal deity of the Philistines, but whose worship extended over all Syria, as well as Mesopotamia and Chaldea; its name being found among the Assyrian gods on the cuneiform inscriptions [RAWLINSON]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represented under a monstrous combination of a human head, breast, and arms, joined to the belly and tail of a fish. The captured ark was placed in the temple of Dagon, right before this image of the id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In Philistine Territory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5:1-1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to Ashdod into the house of Dagon (Philistines g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day: Dagon had fallen on his 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 next day: Dagon had fallen again, head and hands had broken 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caused them to have emerods (hemorrhoids, boils, and/or tum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k taken to Gath – same infl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k taken to Ekron – same infl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hilistines Return The Ark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6:1-2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7 months of death and suff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priests and deviners had a “pl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it with a sin off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2 cows pull the c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rection they go will tell if God was involved, or if the plague was by ch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trained cows went straight to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od and cows used as a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 of Beth-she’mesh looked inside the 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,070 men slaughtered as a res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rk At Kirjath-jearim –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 Sam. 7:1-2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n to the house of A-bin’a-dab in the h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t was not transported at once to Shiloh where the tabernacle and sacred vessels were remaining, is difficult to conjec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azar, his son, was not a Levite, and was therefore only set apart or appointed to be keeper of the pl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abode in Kirjath-jearim 20 years until the days of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47:45Z</dcterms:created>
  <dc:creator>Frank D Vines</dc:creator>
  <dc:description/>
  <dc:language>en-US</dc:language>
  <cp:lastModifiedBy>Frank D Vines</cp:lastModifiedBy>
  <dcterms:modified xsi:type="dcterms:W3CDTF">2005-03-11T20:46:03Z</dcterms:modified>
  <cp:revision>17</cp:revision>
  <dc:subject/>
  <dc:title>Slide 1</dc:title>
</cp:coreProperties>
</file>